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7F0F-8B27-471B-8E06-A61EC2C69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B639-B9B9-4E16-86BD-0C1A22A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41840B-D394-479D-A981-11A00224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BBDFA-ED21-44ED-B698-F66B3F43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7DB002-A48D-4D40-B7BF-13536615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9A4EFD-3F30-4D85-9C4B-B27476A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FF3ED-4863-4904-AF5B-BA0C15D6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1D959-AF22-4D20-981B-6DB29B7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4725C0-CBE5-45ED-AFB6-FD921C7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52D7F-A87B-45AD-BBE0-9F65DC6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A296E-E231-4ACC-8CF5-A4E8BBCA1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D88A-6D8E-4303-8F41-A4034FE54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285D-C149-466B-93F0-610EDD3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C6C9-A52C-4C14-8A09-13AE9D8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03ACF-85F9-4B83-A25B-A4EC4265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F6D9F-68DE-484D-B927-88A39C3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9F3C-7A08-4E80-8141-94D52CAE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1BAD-B710-488C-A3F5-9FABAEDB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4645A-9CB8-4B68-9E79-C246953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D693-2CC5-4AE4-9F7F-F91176D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A9DC0-0CA3-480D-AEAE-D0DF0A9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90C8-17D3-49A4-AC4B-7D4EE01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B7691-4ED7-49AB-8C55-FACCF85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F28F-2F97-42C2-9D36-EB66156C2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B2CD-53EC-43A1-B675-E8C409F51D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3F6AF-02A6-479B-85BE-6447031E40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387AF0-98B4-45AE-B020-D3550AC0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97ABB-2284-4980-8626-3DC54C0A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B73DC-ADE4-4090-B202-9783FCA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F84D43-1C33-4D1F-A7C6-13F1A76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D3B4A-F8A1-4D68-85BF-8A86B0BC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FD176-2EA3-47C0-BCB7-30A2C72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67698-5DC9-482C-AE7F-FE0D31BA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32477-BF6F-436C-8E22-C50D5DD3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BB00B-B44A-4DBE-ABFC-5B3B1351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221A5-09ED-42AB-AC9E-044ABB2D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FFAEA-891C-4396-BC7F-121E6E5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3C0A7-EFDE-4D1B-A9E2-66CB9D750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7674E-0ABC-4B8C-921A-553F731BE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364FB-CB9E-4284-B856-415BA55E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4E727-2690-4456-BFF0-0540234C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0D3ED-E23D-4C88-97FC-1B3C78C8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06A0E-77EB-4510-A4EE-8FADF2DB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39645-2377-4DE7-9B74-98FDC5AE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7D5BE-7E4B-475F-88A4-8F95259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583B-E764-4042-AE02-6D450C85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36A6B-E3F2-4044-80FB-04A3113A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E73EE-DDCF-4197-8822-41831A25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EE4EC-9D90-4DCB-9AA2-9FA0CA9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6F4F8-8A9D-41CD-BEBE-A327B9C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05273-25D1-40C9-BF0E-F627B8C56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A3018-389D-4918-BD49-BE50282DB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5128F-7150-4CC4-B89F-B6D5316A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35C54-9619-474B-BB03-E29C0F2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C28A7-F116-47D5-97C7-EE383E2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F74B4-9B6C-498A-B6E1-DE96DDD0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6327-C899-4591-931A-F6F0A3D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5AC71-7CCA-487C-8EAC-D1D81708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48C40-83B4-48E1-8364-7C9A4E2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5731-FCF5-456A-8CD4-054F97A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99B55-A381-4E3F-B52D-BFCF395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7A45A-10EC-46C0-A6E1-A7583530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EB224-98DE-4A7D-86B5-A1428E9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F1ED4-6919-4F15-B78B-5BCA1ED36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7932-5EB4-4DEF-AFA9-48942A11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ADC05-2827-4426-B53F-3DACCDB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E0C6-E794-4234-9BE3-A35C614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00C32-9DCD-4F00-8CCF-2B7A2514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9767-C639-4591-90FE-D885896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633E-4602-4B74-BDC8-E9FD03D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1DECE-F05B-4376-99D8-7D703BF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B5FA-3A5A-4588-BB2F-0CC086D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2F940-1CA8-4E90-B09D-F0EDC98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BCF3F-EEE0-43A3-8100-E9CD056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1F40C-21BB-4747-902A-23FCB53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F1EA-5607-4B06-B9DD-52EB911D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8A453-5968-48E1-B1E9-76EA959B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D94A1-3A34-4512-8AD2-50A35E46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53CC-4A38-4959-AE64-7ED4F7E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B6677-AAD5-4763-981F-D9EFC26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D04C-AE28-45FD-BE2E-48E1582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ABDB-8EDF-401F-B004-97CC4B0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FDE9-EEEF-4AEB-A0C5-61937F9D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27578-E1A6-4C55-B243-1CF405A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74FE-8A99-4DA2-BC23-6A83982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B639E-FF81-40EF-8227-AEC8FB8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1B48B-5E72-4CE5-8D0A-24DC611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0AD4C-3CB2-49FA-865E-193352B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60107-ADE8-4020-8DA7-6906A812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10646-F2EE-4DB7-9B7D-8DD1217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A53A9-492D-418A-8F4A-0E551D3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E0803-CB5C-45C9-8FA3-61462E83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67A59-A0E7-476C-A4CC-CE4758F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F6A3-5DC8-48AB-A4E7-327BA29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FBFEE-4FA0-43D6-B5DF-2D3DBBC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91378-AF0C-424D-9416-BFDED1E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5EE34-6C51-49F2-AFFB-A5ABAC5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DADA0-FB1F-4F10-8090-58FFF91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1F797-0550-4E4B-A65B-9E8E62E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DDC12-EE07-44CE-8BB4-5AD8D0F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518E-E578-457C-B907-B4D9A88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B590D-5121-4E5F-821A-BB88FF94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0ED58-11FD-4B5F-B498-E3C325F7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BA7CD-A498-466E-B3D8-812D3D82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5C866-3EDB-49D1-BA0B-E767B76A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DA868-13E9-4392-8BF3-EE1054D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38906-48E4-42EB-BAA5-33FAD0F9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69ACE-806B-4899-96F9-E090875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D6EE1-DB42-413D-AE7F-D55DB95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31AB3-3ADF-4966-921B-23CB8668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7A560-95A5-4639-8E9F-2DE3211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C167-97A6-4416-BD3C-29BEF7E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E900-4887-458E-987F-5B30F65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E31F0-FE3D-4064-A4AB-D37A744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130F-0F5F-40CE-A835-FA71228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97C70-1828-4DAA-BBF9-5ECCDBA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74FAA-4BC1-4888-8166-F1A0B8C5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8078D-69C6-4683-8302-D1813C26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63FBE-C03F-4F11-B327-DAB077D4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1819F-2CEE-4C1E-9EE5-CC4CCA2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76B80-C917-4BFC-9983-6987A24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2DCCE-6899-4937-9AC2-25489BC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FD60D-015D-4116-B61E-CAD4346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F1E01-F672-4ABB-9508-BAC6002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4FACD-8947-47EA-87B6-BEE28964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8EA07-2FE0-4AAE-8E8B-3CEEBEF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5212F-2AD5-4E70-A037-80E39BC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52563-9122-49E6-BF05-52E09AB6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787FE-445C-456D-848A-412D409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63831-8B0B-40C2-BD2C-2A4834E4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37AAD-DF1C-41A4-BD65-739A465B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E87CC-F293-4E04-B500-F9CB9A55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92F66-62B3-4FE3-ADD1-8C3F89E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7710B-92E7-47F2-8318-918F22A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73C55-D1C9-4F5A-A30C-159DBE4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1C6FF-04DC-4915-BA17-332567C7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5EE4C-4453-41DA-8D73-E35B32F8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C5EDE-47B9-43D4-BC20-C0E9F8C2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915C7-A9FE-4DE3-8764-C48BC4B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130AC-C20D-4F7C-B1A9-EAE8965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A39EE-7127-4FAD-A9D2-9774BC0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3F02E-1119-4179-B586-A64C4130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C1F73-E017-46A3-ABBC-F6B7054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EF118-B95B-4742-A9CF-321AEAC1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950C6-37B8-4690-BDDA-C5B18C74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D370D-6A70-46D6-BB6D-D1428B5A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B6F37-6D1B-40A4-8287-3F3393D9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D4377-36E8-4A59-AAD5-3D96CF15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591C9-ED71-41D7-B369-B669CCFB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E83B4-6E35-4D07-9335-9F0F09A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3709F-42DA-4A46-B82A-BC0A16C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555BC-6F00-49CE-AE74-E2AE0F5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CC180-2832-47FA-8BC8-5690E3C1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CD7FC-E18E-4A61-A717-44B12A7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DABB5-E951-4E45-B3D1-1412EF7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5AA5D-A112-47C6-8522-72C0AAEC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F5A1-6F0B-4C71-99E1-E173E0D2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0E1BA-9A9B-482B-B09B-75F73B73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8001B-BAAC-4978-B392-D23BE8F9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AD136-4BD8-4EB9-90DB-AEF3CA04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73D82-BB25-4BB5-A1D0-D92D9514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10C9F-6F98-45AF-A95A-A9F014FA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9A05C-FE72-4ACB-B329-DF42188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9EA51-177B-462D-BF66-80E9CD2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E3FE5-54B0-49D4-ABC2-928642C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7D32E-7943-4446-B52D-3519D66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F5659-34A6-47BD-83E7-9EAE9F3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00731-8B55-477C-8B4C-BE260E740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403A0-55AD-42F1-9A15-8826534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0339A-335D-449C-A43C-47804BDB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33E34-09BF-4324-B08A-D70D01BD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27FB4-E1B9-4DD5-8836-F673E398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D3309-778E-4B25-836E-D749676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27072-0DF5-4C0B-82A1-9275B54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D425F-4110-40A0-8A65-719F5EA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5498F-0848-4C08-8D40-51E5365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2816F-EBCB-4AAE-84FE-DA34AB4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E46E3-6CE0-4DE4-92C8-D767453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84653-56A9-49EB-8E60-7E6EB8E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08146-6F25-4CFD-B7AD-FB1B37E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37BF9-DF8D-4DC7-8188-3467F4C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F210A-4718-44DD-8B94-E7C07C36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B989C-8E20-4A7A-877B-940BD940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9DB69-A522-425D-99E7-50B36D12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72F6E-784A-47BC-8230-3C045780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AFC7F-3A18-4DDC-871B-CCAEA2F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FE8BC-1A36-4B56-A103-5B463C1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2C782-9159-4BDF-8D2F-EF88F96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10809-6F37-4ECE-914C-6D2A034A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30A93-A39A-452D-8A52-957E5E0A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96988-D6E9-49A3-BAC8-973EE2C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42467-7987-4B90-8DEB-3F595B3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00CF7-1604-4CB5-A689-BE789C92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061EB-4EC5-468B-ADE0-B96DF7B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FC445-54AB-476D-A2C3-92F0CE6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7C5C5-778D-4635-8843-50A63DEE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B805C-8753-479C-81D1-020A867C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61947-09F3-4694-8696-B164D613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4F281-D291-490B-BE83-0EC204A3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966CB-9929-4059-82E4-A6509F1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DF76E-5B02-4CD1-B8E6-58F9841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8F32D-0D15-4C65-B38C-D151F44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79F44-9952-481C-82F3-01C088E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F16B6-30B5-4F81-BBDE-C7D6263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6A7A1-3904-4F82-AB71-84582A5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462ED-7EC0-4B50-B221-97344EB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0C3EA-AF13-4C8A-B742-D83A0F3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AD3E6-A835-4D5D-B5CD-A4552F9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98BB0-4331-45C4-8615-0344605A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0A2D6-181E-4F64-962C-C78C9AF9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56AC0-0F64-4302-AA4D-F529B3F7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3AB1-D77A-40E1-BF73-DCFD259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C5CEB-F4B0-4DF5-B357-509B65AF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E2185-A810-42FC-AAD3-7BDADEE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4BCBA-49F6-44D0-BAB2-294191F9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F71D9-2A02-4724-B5ED-C514477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29499-CF8E-4A8B-B517-9D0FE30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74A80-7421-4149-8B62-D53513B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0D074-2F13-45AA-8762-3D3CAD407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B996-1431-47EA-B345-7AD02D995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B604-478C-4573-8C8E-2E4720D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A427-3FF7-49A1-A3D1-B708514E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04B9-25A2-4AB2-9E2B-C57D0C4C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3BAC-6AE6-4AEB-B329-F29B2C56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3A32-DEEC-4695-A45C-2E3BA6D5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D533-A4DE-47D7-8A80-57A99C50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3B9E-4EA3-44C1-BB7B-5904B22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378E-7620-4CF2-93BA-D401319B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D7E1-1F21-4110-AC13-13F41691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CC57-B072-4FD1-B1F0-B36C9E29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A8E9-6070-404C-AE8B-0DB0319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4A66-4DA2-4073-8016-9608198727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0B600-F83C-44AA-9839-CEE61C19D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7352-67C2-4E7E-BF0D-8EBEDADB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5F1A0-38AA-43FD-91BB-3D967879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520BE-4C4E-4A16-A602-C0BF8FE4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BD727-5A8C-4FDE-BE20-C46FA048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BE517-595B-4E27-ABC2-69E4EB18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C76D5-093D-4F92-A519-F09A76CB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FC767-8B54-4D39-88C6-2036064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ED9E8-B9AA-48A4-9751-6DF6D13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F06E0-C09F-49E5-A645-179EE354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3E223-006C-4B92-A627-54962F20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1B00B-FA1A-4078-9F97-6A0F096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1B82-BE93-4610-AAF2-4E13C33C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98006-D717-4CCB-A5BD-81824D7EF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D19DC-369F-4BF4-B276-7CAED6431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64E6C-E859-4201-BAA2-FC39A253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82D93A-9103-4DED-A17A-CE37F4AD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74D46F-EAC4-408D-B649-121CC2F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2FAC8-3F93-4398-B210-12FF2B43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7A3A5-9963-484D-A419-0DAA24F9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2517F-E713-4BDF-8258-9D52ED0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E94468-A08E-4367-A137-D217A2A4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990CA-EF0E-4179-9131-DDDC50C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B7E4-02EA-4E6F-A92C-09F2A136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77BE6-F2FF-4424-BAA5-1A6279CE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74D7A-2468-4805-8FA0-D7FF4CC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CE037-5352-41CD-99F2-8C58CB48C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9578-3CF3-4AA5-B96D-448275F32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1BA7-1EFB-4F13-9558-DA7AD27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16B83-F619-463D-9942-52884F6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657A-09E2-4AF9-B782-0761266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63A0-782C-4418-B3EF-57A8B6C6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F1470-CDD3-4552-B4E6-1CE87265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F820-0982-48FE-B4A9-C84279E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0B78-6F02-43CB-A09E-E82EB955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6A28-A38A-4030-B39A-E950A5F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8239-B310-4556-9BFD-A01D8E4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F14A-E2AE-4C08-BA67-70EF2855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64CB-D925-45DA-A8E0-2C8D04E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90C2-812B-444F-9A4C-60442A98B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F5ED6-091C-4D48-BCBD-79ED709B4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A8A07-8763-4B47-916E-BCACAB4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F09A6-FCB4-456D-AA59-A1EA69B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91561-AF4E-479F-A9AC-7EF33E6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AD361-5817-4A9D-808C-E91A0E06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946F-ECCD-483D-A4E8-68C4571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6D9B1-6C91-43C2-9AB7-1F9BEE77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39108-6349-45DB-A732-2ECC6125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A22A2-B2E5-46D0-8C00-DA38CA3F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5F3AE-92B3-4C50-BCFD-1701CBF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7D7CB-A972-4F14-B140-6641522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BA67E-B1F7-4838-9EBD-C09704B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9C998-B583-4CCE-B7A1-B07DC4AF3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24EC8-99F3-4604-945F-DB459B01E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88B0B-92E5-413F-91B9-53E5D9D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DF91F-0DB6-4A00-BE1D-58512E0F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4C5-2986-43E7-B721-B1A81F302E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C7F-1C1F-4A1F-A2B6-62DBAE07DF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CCDC-36BA-45B9-8970-1DB7E11AC8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03BF-582D-4EB4-89AA-216CE11804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25E-21AF-4A6B-B324-1294286F1E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929-92DB-4B5C-851A-F6B6A7A54C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60D6-6717-44F3-852F-99CA984FB5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341-2E6B-4C6D-8A56-C03C144572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E59-8095-4EE9-AD75-F4177827B3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DD1-2616-44F4-98EA-A7DD8586F7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686B-E8DD-465F-9740-87978DED7D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D700-412B-4F26-BC00-9F8B5C5DE3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892-B3DD-4C99-A47A-3C45632F1C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CAD-A93E-41B1-9642-7465FA94C7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296A-A5DD-4248-8FCA-F8CB556FF5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30C-AF6A-467F-8AE8-327E7CB899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F756-5A04-47EA-97CB-DA9BB17283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A93-0A33-43BC-AD4E-50E56E275C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3935-7C35-4579-B73C-F57826C4CB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D8F-755F-429F-8201-2C52BD468E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FFA-040C-48C9-ACDB-7E57CBB405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5160-1B23-4248-B8C8-5D26811893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E220-4C4E-4D2A-8539-0A372E7829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DB23-5B01-4923-A1C6-6A10957E22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6400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学广角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205240" cy="360"/>
            <a:chOff x="2284560" y="2448000"/>
            <a:chExt cx="52052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2052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205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广角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14400" y="88920"/>
            <a:ext cx="3245040" cy="525600"/>
            <a:chOff x="-14400" y="88920"/>
            <a:chExt cx="324504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6080" y="88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14400" y="183960"/>
              <a:ext cx="430200" cy="273600"/>
              <a:chOff x="-14400" y="183960"/>
              <a:chExt cx="43020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28240" y="348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760" y="311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8240" y="221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760" y="198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400" y="327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0" y="299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400" y="212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400" y="183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428760" y="69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1000080" y="939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小朋友，你听过“田忌赛马”的故事吗？田忌是怎样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了齐王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24" descr="76.jpg"/>
          <p:cNvPicPr/>
          <p:nvPr/>
        </p:nvPicPr>
        <p:blipFill>
          <a:blip r:embed="rId8"/>
          <a:stretch/>
        </p:blipFill>
        <p:spPr>
          <a:xfrm>
            <a:off x="1428840" y="2071800"/>
            <a:ext cx="621504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1"/>
          <p:cNvGrpSpPr/>
          <p:nvPr/>
        </p:nvGrpSpPr>
        <p:grpSpPr>
          <a:xfrm>
            <a:off x="285480" y="4011480"/>
            <a:ext cx="5000760" cy="1274760"/>
            <a:chOff x="285480" y="4011480"/>
            <a:chExt cx="5000760" cy="1274760"/>
          </a:xfrm>
        </p:grpSpPr>
        <p:pic>
          <p:nvPicPr>
            <p:cNvPr id="1013" name="图片 3" descr="234768-14051F0212184.jpg"/>
            <p:cNvPicPr/>
            <p:nvPr/>
          </p:nvPicPr>
          <p:blipFill>
            <a:blip r:embed="rId1"/>
            <a:stretch/>
          </p:blipFill>
          <p:spPr>
            <a:xfrm flipH="1">
              <a:off x="285480" y="4011480"/>
              <a:ext cx="8326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Box 4"/>
            <p:cNvSpPr/>
            <p:nvPr/>
          </p:nvSpPr>
          <p:spPr>
            <a:xfrm>
              <a:off x="1285920" y="4225680"/>
              <a:ext cx="91440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田忌所用的这种策略是不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唯一能赢齐王的方法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圆角矩形标注 5"/>
            <p:cNvSpPr/>
            <p:nvPr/>
          </p:nvSpPr>
          <p:spPr>
            <a:xfrm>
              <a:off x="1285920" y="4248000"/>
              <a:ext cx="4000320" cy="857160"/>
            </a:xfrm>
            <a:prstGeom prst="wedgeRoundRectCallout">
              <a:avLst>
                <a:gd name="adj1" fmla="val -54694"/>
                <a:gd name="adj2" fmla="val 587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6" name=""/>
          <p:cNvGraphicFramePr/>
          <p:nvPr/>
        </p:nvGraphicFramePr>
        <p:xfrm>
          <a:off x="1143000" y="1285920"/>
          <a:ext cx="6095880" cy="2074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7" name="TextBox 7"/>
          <p:cNvSpPr/>
          <p:nvPr/>
        </p:nvSpPr>
        <p:spPr>
          <a:xfrm>
            <a:off x="2928960" y="128592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齐  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8"/>
          <p:cNvSpPr/>
          <p:nvPr/>
        </p:nvSpPr>
        <p:spPr>
          <a:xfrm>
            <a:off x="4478400" y="128592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  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9"/>
          <p:cNvSpPr/>
          <p:nvPr/>
        </p:nvSpPr>
        <p:spPr>
          <a:xfrm>
            <a:off x="5786280" y="128592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本场胜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0"/>
          <p:cNvSpPr/>
          <p:nvPr/>
        </p:nvSpPr>
        <p:spPr>
          <a:xfrm>
            <a:off x="1314360" y="1741320"/>
            <a:ext cx="914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一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1"/>
          <p:cNvSpPr/>
          <p:nvPr/>
        </p:nvSpPr>
        <p:spPr>
          <a:xfrm>
            <a:off x="1335240" y="2357280"/>
            <a:ext cx="914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二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2"/>
          <p:cNvSpPr/>
          <p:nvPr/>
        </p:nvSpPr>
        <p:spPr>
          <a:xfrm>
            <a:off x="1335240" y="2830680"/>
            <a:ext cx="91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三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13"/>
          <p:cNvSpPr/>
          <p:nvPr/>
        </p:nvSpPr>
        <p:spPr>
          <a:xfrm>
            <a:off x="2857680" y="1747800"/>
            <a:ext cx="91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14"/>
          <p:cNvSpPr/>
          <p:nvPr/>
        </p:nvSpPr>
        <p:spPr>
          <a:xfrm>
            <a:off x="2876400" y="2365200"/>
            <a:ext cx="914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中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15"/>
          <p:cNvSpPr/>
          <p:nvPr/>
        </p:nvSpPr>
        <p:spPr>
          <a:xfrm>
            <a:off x="2876400" y="283860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下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22"/>
          <p:cNvGrpSpPr/>
          <p:nvPr/>
        </p:nvGrpSpPr>
        <p:grpSpPr>
          <a:xfrm>
            <a:off x="5429160" y="3668760"/>
            <a:ext cx="3357720" cy="2214360"/>
            <a:chOff x="5429160" y="3668760"/>
            <a:chExt cx="3357720" cy="2214360"/>
          </a:xfrm>
        </p:grpSpPr>
        <p:pic>
          <p:nvPicPr>
            <p:cNvPr id="1027" name="图片 16" descr="77.jpg"/>
            <p:cNvPicPr/>
            <p:nvPr/>
          </p:nvPicPr>
          <p:blipFill>
            <a:blip r:embed="rId2"/>
            <a:stretch/>
          </p:blipFill>
          <p:spPr>
            <a:xfrm>
              <a:off x="5429160" y="3668760"/>
              <a:ext cx="335772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18"/>
            <p:cNvSpPr/>
            <p:nvPr/>
          </p:nvSpPr>
          <p:spPr>
            <a:xfrm>
              <a:off x="6357960" y="5383080"/>
              <a:ext cx="1071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19"/>
            <p:cNvSpPr/>
            <p:nvPr/>
          </p:nvSpPr>
          <p:spPr>
            <a:xfrm>
              <a:off x="7643880" y="5025960"/>
              <a:ext cx="1071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TextBox 23"/>
          <p:cNvSpPr/>
          <p:nvPr/>
        </p:nvSpPr>
        <p:spPr>
          <a:xfrm>
            <a:off x="500040" y="716040"/>
            <a:ext cx="914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田忌是怎样赢了齐王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4"/>
          <p:cNvSpPr/>
          <p:nvPr/>
        </p:nvSpPr>
        <p:spPr>
          <a:xfrm>
            <a:off x="4376880" y="175572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下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5"/>
          <p:cNvSpPr/>
          <p:nvPr/>
        </p:nvSpPr>
        <p:spPr>
          <a:xfrm>
            <a:off x="4395960" y="237348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上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6"/>
          <p:cNvSpPr/>
          <p:nvPr/>
        </p:nvSpPr>
        <p:spPr>
          <a:xfrm>
            <a:off x="4395960" y="284652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中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27"/>
          <p:cNvSpPr/>
          <p:nvPr/>
        </p:nvSpPr>
        <p:spPr>
          <a:xfrm>
            <a:off x="5940360" y="176688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齐   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28"/>
          <p:cNvSpPr/>
          <p:nvPr/>
        </p:nvSpPr>
        <p:spPr>
          <a:xfrm>
            <a:off x="5959440" y="2311560"/>
            <a:ext cx="91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田   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29"/>
          <p:cNvSpPr/>
          <p:nvPr/>
        </p:nvSpPr>
        <p:spPr>
          <a:xfrm>
            <a:off x="5959440" y="285768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田   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八边形 7"/>
          <p:cNvSpPr/>
          <p:nvPr/>
        </p:nvSpPr>
        <p:spPr>
          <a:xfrm>
            <a:off x="385920" y="70812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"/>
          <p:cNvGraphicFramePr/>
          <p:nvPr/>
        </p:nvGraphicFramePr>
        <p:xfrm>
          <a:off x="1285920" y="1738440"/>
          <a:ext cx="6095880" cy="4147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9" name="TextBox 12"/>
          <p:cNvSpPr/>
          <p:nvPr/>
        </p:nvSpPr>
        <p:spPr>
          <a:xfrm>
            <a:off x="2548080" y="1741320"/>
            <a:ext cx="114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一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3"/>
          <p:cNvSpPr/>
          <p:nvPr/>
        </p:nvSpPr>
        <p:spPr>
          <a:xfrm>
            <a:off x="3762360" y="1741320"/>
            <a:ext cx="114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二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14"/>
          <p:cNvSpPr/>
          <p:nvPr/>
        </p:nvSpPr>
        <p:spPr>
          <a:xfrm>
            <a:off x="4987800" y="1741320"/>
            <a:ext cx="114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三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15"/>
          <p:cNvSpPr/>
          <p:nvPr/>
        </p:nvSpPr>
        <p:spPr>
          <a:xfrm>
            <a:off x="6224760" y="1741320"/>
            <a:ext cx="114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获胜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16"/>
          <p:cNvSpPr/>
          <p:nvPr/>
        </p:nvSpPr>
        <p:spPr>
          <a:xfrm>
            <a:off x="2548080" y="2286000"/>
            <a:ext cx="1143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7"/>
          <p:cNvSpPr/>
          <p:nvPr/>
        </p:nvSpPr>
        <p:spPr>
          <a:xfrm>
            <a:off x="3762360" y="2286000"/>
            <a:ext cx="1143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中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18"/>
          <p:cNvSpPr/>
          <p:nvPr/>
        </p:nvSpPr>
        <p:spPr>
          <a:xfrm>
            <a:off x="4987800" y="2286000"/>
            <a:ext cx="1143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下等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19"/>
          <p:cNvSpPr/>
          <p:nvPr/>
        </p:nvSpPr>
        <p:spPr>
          <a:xfrm>
            <a:off x="1382760" y="227952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齐  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6"/>
          <p:cNvSpPr/>
          <p:nvPr/>
        </p:nvSpPr>
        <p:spPr>
          <a:xfrm>
            <a:off x="1371600" y="2813040"/>
            <a:ext cx="1143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37"/>
          <p:cNvSpPr/>
          <p:nvPr/>
        </p:nvSpPr>
        <p:spPr>
          <a:xfrm>
            <a:off x="1371600" y="3348000"/>
            <a:ext cx="1143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8"/>
          <p:cNvSpPr/>
          <p:nvPr/>
        </p:nvSpPr>
        <p:spPr>
          <a:xfrm>
            <a:off x="1371600" y="388296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9"/>
          <p:cNvSpPr/>
          <p:nvPr/>
        </p:nvSpPr>
        <p:spPr>
          <a:xfrm>
            <a:off x="1371600" y="434484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40"/>
          <p:cNvSpPr/>
          <p:nvPr/>
        </p:nvSpPr>
        <p:spPr>
          <a:xfrm>
            <a:off x="1371600" y="4878360"/>
            <a:ext cx="1143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41"/>
          <p:cNvSpPr/>
          <p:nvPr/>
        </p:nvSpPr>
        <p:spPr>
          <a:xfrm>
            <a:off x="1371600" y="541332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田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42"/>
          <p:cNvSpPr/>
          <p:nvPr/>
        </p:nvSpPr>
        <p:spPr>
          <a:xfrm>
            <a:off x="606600" y="53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田忌到底有多少种可以采用的应对策略呢？结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是怎样的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71"/>
          <p:cNvGrpSpPr/>
          <p:nvPr/>
        </p:nvGrpSpPr>
        <p:grpSpPr>
          <a:xfrm>
            <a:off x="2548080" y="2813040"/>
            <a:ext cx="4876560" cy="501840"/>
            <a:chOff x="2548080" y="2813040"/>
            <a:chExt cx="4876560" cy="501840"/>
          </a:xfrm>
        </p:grpSpPr>
        <p:sp>
          <p:nvSpPr>
            <p:cNvPr id="1055" name="TextBox 43"/>
            <p:cNvSpPr/>
            <p:nvPr/>
          </p:nvSpPr>
          <p:spPr>
            <a:xfrm>
              <a:off x="6281640" y="2813040"/>
              <a:ext cx="1143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齐  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Box 49"/>
            <p:cNvSpPr/>
            <p:nvPr/>
          </p:nvSpPr>
          <p:spPr>
            <a:xfrm>
              <a:off x="2548080" y="2813040"/>
              <a:ext cx="1143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Box 50"/>
            <p:cNvSpPr/>
            <p:nvPr/>
          </p:nvSpPr>
          <p:spPr>
            <a:xfrm>
              <a:off x="3762360" y="2813040"/>
              <a:ext cx="1143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Box 51"/>
            <p:cNvSpPr/>
            <p:nvPr/>
          </p:nvSpPr>
          <p:spPr>
            <a:xfrm>
              <a:off x="4988160" y="2813040"/>
              <a:ext cx="1143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72"/>
          <p:cNvGrpSpPr/>
          <p:nvPr/>
        </p:nvGrpSpPr>
        <p:grpSpPr>
          <a:xfrm>
            <a:off x="2548080" y="3363840"/>
            <a:ext cx="4857480" cy="500040"/>
            <a:chOff x="2548080" y="3363840"/>
            <a:chExt cx="4857480" cy="500040"/>
          </a:xfrm>
        </p:grpSpPr>
        <p:sp>
          <p:nvSpPr>
            <p:cNvPr id="1060" name="TextBox 44"/>
            <p:cNvSpPr/>
            <p:nvPr/>
          </p:nvSpPr>
          <p:spPr>
            <a:xfrm>
              <a:off x="6262560" y="336384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齐  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Box 52"/>
            <p:cNvSpPr/>
            <p:nvPr/>
          </p:nvSpPr>
          <p:spPr>
            <a:xfrm>
              <a:off x="2548080" y="336384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Box 53"/>
            <p:cNvSpPr/>
            <p:nvPr/>
          </p:nvSpPr>
          <p:spPr>
            <a:xfrm>
              <a:off x="3762360" y="336384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Box 54"/>
            <p:cNvSpPr/>
            <p:nvPr/>
          </p:nvSpPr>
          <p:spPr>
            <a:xfrm>
              <a:off x="4988160" y="336384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73"/>
          <p:cNvGrpSpPr/>
          <p:nvPr/>
        </p:nvGrpSpPr>
        <p:grpSpPr>
          <a:xfrm>
            <a:off x="2548080" y="3889440"/>
            <a:ext cx="4894200" cy="501480"/>
            <a:chOff x="2548080" y="3889440"/>
            <a:chExt cx="4894200" cy="501480"/>
          </a:xfrm>
        </p:grpSpPr>
        <p:sp>
          <p:nvSpPr>
            <p:cNvPr id="1065" name="TextBox 45"/>
            <p:cNvSpPr/>
            <p:nvPr/>
          </p:nvSpPr>
          <p:spPr>
            <a:xfrm>
              <a:off x="6299640" y="3889440"/>
              <a:ext cx="1142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齐  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55"/>
            <p:cNvSpPr/>
            <p:nvPr/>
          </p:nvSpPr>
          <p:spPr>
            <a:xfrm>
              <a:off x="2548080" y="3889440"/>
              <a:ext cx="1142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56"/>
            <p:cNvSpPr/>
            <p:nvPr/>
          </p:nvSpPr>
          <p:spPr>
            <a:xfrm>
              <a:off x="3762000" y="3889440"/>
              <a:ext cx="1142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Box 57"/>
            <p:cNvSpPr/>
            <p:nvPr/>
          </p:nvSpPr>
          <p:spPr>
            <a:xfrm>
              <a:off x="4987800" y="3889440"/>
              <a:ext cx="1142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组合 74"/>
          <p:cNvGrpSpPr/>
          <p:nvPr/>
        </p:nvGrpSpPr>
        <p:grpSpPr>
          <a:xfrm>
            <a:off x="2548080" y="4356000"/>
            <a:ext cx="4887720" cy="500040"/>
            <a:chOff x="2548080" y="4356000"/>
            <a:chExt cx="4887720" cy="500040"/>
          </a:xfrm>
        </p:grpSpPr>
        <p:sp>
          <p:nvSpPr>
            <p:cNvPr id="1070" name="TextBox 46"/>
            <p:cNvSpPr/>
            <p:nvPr/>
          </p:nvSpPr>
          <p:spPr>
            <a:xfrm>
              <a:off x="6292800" y="435600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齐  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Box 58"/>
            <p:cNvSpPr/>
            <p:nvPr/>
          </p:nvSpPr>
          <p:spPr>
            <a:xfrm>
              <a:off x="2548080" y="435600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59"/>
            <p:cNvSpPr/>
            <p:nvPr/>
          </p:nvSpPr>
          <p:spPr>
            <a:xfrm>
              <a:off x="3762360" y="435600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Box 60"/>
            <p:cNvSpPr/>
            <p:nvPr/>
          </p:nvSpPr>
          <p:spPr>
            <a:xfrm>
              <a:off x="4988160" y="435600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组合 75"/>
          <p:cNvGrpSpPr/>
          <p:nvPr/>
        </p:nvGrpSpPr>
        <p:grpSpPr>
          <a:xfrm>
            <a:off x="2548080" y="4894200"/>
            <a:ext cx="4890960" cy="500040"/>
            <a:chOff x="2548080" y="4894200"/>
            <a:chExt cx="4890960" cy="500040"/>
          </a:xfrm>
        </p:grpSpPr>
        <p:sp>
          <p:nvSpPr>
            <p:cNvPr id="1075" name="TextBox 47"/>
            <p:cNvSpPr/>
            <p:nvPr/>
          </p:nvSpPr>
          <p:spPr>
            <a:xfrm>
              <a:off x="6296400" y="489420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田  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Box 61"/>
            <p:cNvSpPr/>
            <p:nvPr/>
          </p:nvSpPr>
          <p:spPr>
            <a:xfrm>
              <a:off x="2548080" y="489420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Box 62"/>
            <p:cNvSpPr/>
            <p:nvPr/>
          </p:nvSpPr>
          <p:spPr>
            <a:xfrm>
              <a:off x="3762360" y="489420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63"/>
            <p:cNvSpPr/>
            <p:nvPr/>
          </p:nvSpPr>
          <p:spPr>
            <a:xfrm>
              <a:off x="4988160" y="489420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组合 76"/>
          <p:cNvGrpSpPr/>
          <p:nvPr/>
        </p:nvGrpSpPr>
        <p:grpSpPr>
          <a:xfrm>
            <a:off x="2548080" y="5430960"/>
            <a:ext cx="4894200" cy="500040"/>
            <a:chOff x="2548080" y="5430960"/>
            <a:chExt cx="4894200" cy="500040"/>
          </a:xfrm>
        </p:grpSpPr>
        <p:sp>
          <p:nvSpPr>
            <p:cNvPr id="1080" name="TextBox 48"/>
            <p:cNvSpPr/>
            <p:nvPr/>
          </p:nvSpPr>
          <p:spPr>
            <a:xfrm>
              <a:off x="6299640" y="543096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齐  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Box 64"/>
            <p:cNvSpPr/>
            <p:nvPr/>
          </p:nvSpPr>
          <p:spPr>
            <a:xfrm>
              <a:off x="2548080" y="543096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下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65"/>
            <p:cNvSpPr/>
            <p:nvPr/>
          </p:nvSpPr>
          <p:spPr>
            <a:xfrm>
              <a:off x="3762360" y="543096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中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66"/>
            <p:cNvSpPr/>
            <p:nvPr/>
          </p:nvSpPr>
          <p:spPr>
            <a:xfrm>
              <a:off x="4987800" y="5430960"/>
              <a:ext cx="114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上等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Box 6"/>
          <p:cNvSpPr/>
          <p:nvPr/>
        </p:nvSpPr>
        <p:spPr>
          <a:xfrm>
            <a:off x="514440" y="11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两人玩扑克牌比大小的游戏，每人每次出一张牌，各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次，赢两次者胜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小红拿的是右边的一组牌，她有可能获胜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图片 7" descr="78.jpg"/>
          <p:cNvPicPr/>
          <p:nvPr/>
        </p:nvPicPr>
        <p:blipFill>
          <a:blip r:embed="rId1"/>
          <a:stretch/>
        </p:blipFill>
        <p:spPr>
          <a:xfrm>
            <a:off x="857160" y="3000240"/>
            <a:ext cx="7358040" cy="1254240"/>
          </a:xfrm>
          <a:prstGeom prst="rect">
            <a:avLst/>
          </a:prstGeom>
          <a:ln w="0">
            <a:noFill/>
          </a:ln>
        </p:spPr>
      </p:pic>
      <p:sp>
        <p:nvSpPr>
          <p:cNvPr id="1086" name="TextBox 24"/>
          <p:cNvSpPr/>
          <p:nvPr/>
        </p:nvSpPr>
        <p:spPr>
          <a:xfrm>
            <a:off x="1214280" y="457200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她有可能胜。根据“田忌赛马”的原理，可以先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自己的黑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与对方的红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比，再用自己的黑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对方的红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比，最后用自己的黑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8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与对方的红桃</a:t>
            </a:r>
            <a:r>
              <a:rPr b="0" lang="en-US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比，这样就可能获胜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8" name="Rectangle 64"/>
          <p:cNvSpPr/>
          <p:nvPr/>
        </p:nvSpPr>
        <p:spPr>
          <a:xfrm>
            <a:off x="530280" y="220680"/>
            <a:ext cx="2340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32"/>
          <p:cNvSpPr/>
          <p:nvPr/>
        </p:nvSpPr>
        <p:spPr>
          <a:xfrm>
            <a:off x="353880" y="114444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同一个问题可以有不同的策略，但要学会寻找解决问题的最优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与对方进行比赛时，要详细地分析自己与对方的情况，反复研究各种对策，在所有可能采取的策略中，选择一个利多弊少的最优策略，从而使劣势变为优势，最终取得胜利 。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3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99"/>
          <p:cNvSpPr/>
          <p:nvPr/>
        </p:nvSpPr>
        <p:spPr>
          <a:xfrm>
            <a:off x="365040" y="698400"/>
            <a:ext cx="83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火柴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人轮流取走，每次只能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，谁取到最后一根火柴谁就赢。想一想，为了确保获胜，是应该先取，还是应该后取？怎样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"/>
          <p:cNvSpPr/>
          <p:nvPr/>
        </p:nvSpPr>
        <p:spPr>
          <a:xfrm>
            <a:off x="438120" y="259380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自己先取一根，然后如果对方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根自己就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根，如果对方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根自己就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根，如此循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10:55Z</dcterms:created>
  <dc:creator/>
  <dc:description/>
  <dc:language>en-US</dc:language>
  <cp:lastModifiedBy>万润仪器贸易公司</cp:lastModifiedBy>
  <dcterms:modified xsi:type="dcterms:W3CDTF">2020-08-21T09:01:58Z</dcterms:modified>
  <cp:revision>2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